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68306"/>
        <c:axId val="78221737"/>
      </c:barChart>
      <c:catAx>
        <c:axId val="33468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21737"/>
        <c:crosses val="autoZero"/>
        <c:auto val="1"/>
        <c:lblAlgn val="ctr"/>
        <c:lblOffset val="100"/>
        <c:noMultiLvlLbl val="0"/>
      </c:catAx>
      <c:valAx>
        <c:axId val="78221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68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F46-529D-40BA-83A6-F044C557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D8F-B35B-46EC-B119-6FBBBD3F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83A-B380-4768-B194-CD08A1EE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D53-FADB-47A9-8FFC-848F2028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9AF-FBD3-4A0F-9F85-2AD853E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F5B-A802-4B51-B167-41A503A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DDB-689B-418D-B6F5-E03FCBFA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4B6-C6D5-4F51-8615-32398D5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643-AB9E-4A35-A922-3E281265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0DE-848C-43B5-8694-43D5FA3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D5E-F3AF-4B28-82E1-54E1E1A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E0B-B2C5-4ED3-94F2-AE0F8999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989CC-81BC-4FFC-9C4D-36AE8ACA7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