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63750"/>
        <c:axId val="71757794"/>
      </c:barChart>
      <c:catAx>
        <c:axId val="39863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57794"/>
        <c:crosses val="autoZero"/>
        <c:auto val="1"/>
        <c:lblAlgn val="ctr"/>
        <c:lblOffset val="100"/>
        <c:noMultiLvlLbl val="0"/>
      </c:catAx>
      <c:valAx>
        <c:axId val="71757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63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0C8-A78D-41A1-A3DC-78762A9D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7A0-16DE-49CA-874D-D7E5F61B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073-4231-4984-961A-AC1F565F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797-FC90-4106-872C-5E2B4D44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F7B-C2AA-4EA4-802D-8E3277EE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8F5-E514-47CE-8945-D342D256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42E-D565-4003-AC6B-D1208809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645-E3F2-41F8-B947-F1A20969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81B-BA77-436B-A887-0AB165A8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9E9-C7B3-41CC-AAA7-1BDC1324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A07-B8AD-40DA-9D34-57129EE6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613-B84A-446C-8E65-6ED5A368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F7CB2-BEB3-418B-BC2F-2841AA594F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