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67445"/>
        <c:axId val="6243115"/>
      </c:barChart>
      <c:catAx>
        <c:axId val="11567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3115"/>
        <c:crosses val="autoZero"/>
        <c:auto val="1"/>
        <c:lblAlgn val="ctr"/>
        <c:lblOffset val="100"/>
        <c:noMultiLvlLbl val="0"/>
      </c:catAx>
      <c:valAx>
        <c:axId val="6243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67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68D-2E28-4F1C-8CF5-CF02E3F1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763-7906-45E3-8CC3-90F086B3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F74-AFC6-4885-9282-21A25B3B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2D3-9D56-4E44-9EEF-24A6951C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A31-663D-4F55-94ED-3944DDBA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8F7-112E-4D04-8C30-DF1908DC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908-83B0-43F6-A669-9DA07442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66B-1450-445A-9246-D41A53C6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58E-4818-4277-9F0C-6EEE29E3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9AF-5688-44E1-9140-E944484E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F0B-2EBB-4DB4-8341-BD91974F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3A8-2309-4036-A335-F6CEEB31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00571-9349-4183-9C13-12D5030101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