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57082"/>
        <c:axId val="2832250"/>
      </c:barChart>
      <c:catAx>
        <c:axId val="38457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2250"/>
        <c:crosses val="autoZero"/>
        <c:auto val="1"/>
        <c:lblAlgn val="ctr"/>
        <c:lblOffset val="100"/>
        <c:noMultiLvlLbl val="0"/>
      </c:catAx>
      <c:valAx>
        <c:axId val="2832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57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A6F-4A9F-4256-A9B0-DD5715EA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1C6-E4E9-4E8D-9311-FFB21C4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0D5-6E0F-456A-86CE-09A87B28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669-F7F9-491F-9042-CA2C661F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6EF-5270-4E17-A875-0BEDDCD8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AD0-BAB6-448F-BF5C-DCED1514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AC2-1DD9-4281-99B5-C0ECAFA0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8B7-A284-4F3F-8F2C-DA922356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3B9-5865-402C-957B-398DE4F6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DD2-53E2-4F94-B5E6-8A379A9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487-0D52-4B9A-8F18-48C5EED7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6F6-463A-457A-AD0B-58D4FDA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32677-8FF0-4BD1-A1E2-CD13E7469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