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94829"/>
        <c:axId val="63604998"/>
      </c:barChart>
      <c:catAx>
        <c:axId val="46194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04998"/>
        <c:crosses val="autoZero"/>
        <c:auto val="1"/>
        <c:lblAlgn val="ctr"/>
        <c:lblOffset val="100"/>
        <c:noMultiLvlLbl val="0"/>
      </c:catAx>
      <c:valAx>
        <c:axId val="63604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94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214-4150-404C-BD5A-9CA937E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C4B-6050-418C-9AD5-A86F1DF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BFD-919E-4A41-8978-07A603B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6BB-989A-494B-95FD-296B076C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55F-CF38-49AC-BF9E-85E9A74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9C9-2E94-41B9-BEB4-607433E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81B-D52D-4654-BFE0-379EB61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D4F-A5B3-4088-9826-A3F29AB9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5E5-F819-40E3-BCB5-7AA78E9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2AD-1642-4075-9CE2-D12E77C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53A-2CEA-4413-A9A2-ABEED97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F4-4B5F-4C1E-BEB8-98F457C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2EBD3-4412-452D-85F4-1D0539F12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