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29892"/>
        <c:axId val="48703728"/>
      </c:barChart>
      <c:catAx>
        <c:axId val="61729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03728"/>
        <c:crosses val="autoZero"/>
        <c:auto val="1"/>
        <c:lblAlgn val="ctr"/>
        <c:lblOffset val="100"/>
        <c:noMultiLvlLbl val="0"/>
      </c:catAx>
      <c:valAx>
        <c:axId val="48703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29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24F-5B24-4D91-9CC1-87A9E231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8D3-81DE-43E7-BE66-7929E60F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F99-A8B4-4C4A-9C30-E2FDC0EA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F19-8539-4B95-A665-75712219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85A-412F-4E16-BAA4-04B22DF5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C99-AFC2-4DF4-A068-CD9F3C6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568-D493-41C5-9CED-42CF4C17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441-E01F-46E5-84E3-4839162A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EB8-E668-4EFC-AF52-C74C6BF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521-29AD-47A7-803A-069DD7D0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A40-FAA6-4CBE-BE76-EBFCB326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B9E-5E95-4EDF-B850-259AE6A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1935A-4081-4F62-977A-D935CEA5A7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