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410052"/>
        <c:axId val="34880842"/>
      </c:barChart>
      <c:catAx>
        <c:axId val="694100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880842"/>
        <c:crosses val="autoZero"/>
        <c:auto val="1"/>
        <c:lblAlgn val="ctr"/>
        <c:lblOffset val="100"/>
        <c:noMultiLvlLbl val="0"/>
      </c:catAx>
      <c:valAx>
        <c:axId val="348808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4100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3629-3DF4-46AD-B98C-49AAD7595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FCF5-F8E3-4F99-9511-0E88C0753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CA05-359D-4CBF-B898-0163D403E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BC78-37A6-4397-A696-C18ED474D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EF85-9E24-48AC-8A56-D5FC9219F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814E-CE75-4DE4-B697-551FDFA6C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8E66-E093-4A42-B30D-C9C0F4284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2C96-92B4-4507-B03E-A2D23553F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6792-4730-4667-8847-B6CAFCAA4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AB26-4C4B-4A9B-811F-4142348F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CDDC-1DEA-4CC8-B8B6-9E9B51CA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A543-4015-4DF7-8A2C-DC6AA15D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A125A8-2B7B-4C93-B694-D3210139654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