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648052"/>
        <c:axId val="22742902"/>
      </c:barChart>
      <c:catAx>
        <c:axId val="986480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42902"/>
        <c:crosses val="autoZero"/>
        <c:auto val="1"/>
        <c:lblAlgn val="ctr"/>
        <c:lblOffset val="100"/>
        <c:noMultiLvlLbl val="0"/>
      </c:catAx>
      <c:valAx>
        <c:axId val="227429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480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E0F9-26B0-4C0C-87C5-EC675FDFA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D595-6A32-4326-BE1E-A0F2A2BC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A679-6C40-416B-9B9B-DE17C580B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9AF7-B4A5-45C6-B5F8-89567C134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2634-C2CB-4439-B943-FD90A011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A7CA-CD9D-41FA-98AA-02CB884E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D665-2E5B-486B-80BA-D208AC5A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1CF5-6DFA-4125-BDBA-95C79B15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2200-CB99-4E0F-87B1-8D780544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788B-639F-465B-9950-75CF6012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128F-67B9-4B85-930F-82D6B221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57A3-6945-45BD-B345-217345DF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E7197-F955-4C7E-946A-EA4B830EFB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