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4148917"/>
        <c:axId val="95207555"/>
      </c:barChart>
      <c:catAx>
        <c:axId val="5414891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207555"/>
        <c:crosses val="autoZero"/>
        <c:auto val="1"/>
        <c:lblAlgn val="ctr"/>
        <c:lblOffset val="100"/>
        <c:noMultiLvlLbl val="0"/>
      </c:catAx>
      <c:valAx>
        <c:axId val="9520755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14891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21BBD-72A7-45A5-A980-83E4EEAF6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25293-D867-4FE3-B23D-C7CE1674C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E5E81-2ACF-4C31-A511-832B3ACD6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9BF0D-6B33-441B-AB50-91C1C35FC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84760-5CD6-4457-AB46-A53B53517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C989D-92C2-4F38-9050-ED16980E5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3A26F-FFFC-4940-B345-38D956596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DB826-E359-4D93-85FC-0E0C2B60A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1941A-9E7F-4845-9D29-29DD4E7D8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2E52B-6D74-4A9A-90D0-D91855224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3A309-FB82-41E0-845A-C14371E85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84121-DB49-4BF9-9A6B-062A283FC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798376-F035-4A57-A66C-567F2E7AD47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