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003435"/>
        <c:axId val="77970474"/>
      </c:barChart>
      <c:catAx>
        <c:axId val="240034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970474"/>
        <c:crosses val="autoZero"/>
        <c:auto val="1"/>
        <c:lblAlgn val="ctr"/>
        <c:lblOffset val="100"/>
        <c:noMultiLvlLbl val="0"/>
      </c:catAx>
      <c:valAx>
        <c:axId val="779704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0034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1F2D-3512-463D-ABC8-AEF2A80E6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CA04-510B-4650-AF1D-B3EB2D57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B266-833D-4D83-87BD-2ECF11741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5F0A-3A43-4C8D-B389-DA0D5B827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418E-F653-45E4-9BA8-AD43F05F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EBB2-C502-4D5E-BCCC-CECFA3E3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9FD9-7079-471F-9D28-F94F3A2F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ADB6-F8AE-4880-90A5-45C24EDA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88AF-9CEC-4FEF-8F38-4E8C5AD1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2D88-C398-4DE8-AFA5-8872F561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B059-315D-4E87-A277-E82FE77B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0814-7F05-4D1D-BB47-0718C525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AA40D4-C98F-42A1-BE94-4C6C65D0F1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