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17371"/>
        <c:axId val="67859946"/>
      </c:barChart>
      <c:catAx>
        <c:axId val="45917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59946"/>
        <c:crosses val="autoZero"/>
        <c:auto val="1"/>
        <c:lblAlgn val="ctr"/>
        <c:lblOffset val="100"/>
        <c:noMultiLvlLbl val="0"/>
      </c:catAx>
      <c:valAx>
        <c:axId val="67859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17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34D-D2F9-484A-9F7F-973B6677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9D7-AF0F-4E73-ADFC-830F45D6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C04-89B6-42F2-8501-41273303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3EC-A368-4CD3-89F9-7874339B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FC3-FF3F-4F83-8882-D0A6A87E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3D6-2030-43D4-AE4D-69A97E8B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668-72A8-4277-A81E-BAB6056E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87E-7E3D-42E0-861C-6A32EA20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D24-A04B-4EB0-B8E3-62301924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BA5-24D9-419C-A46E-8A7B3048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381-7DA6-4F0B-BC3A-5C40F0EF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27C-CCE0-4611-87E9-3AFC612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A0E6F-687D-4E37-93F9-E3B429E138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