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28162"/>
        <c:axId val="60384318"/>
      </c:barChart>
      <c:catAx>
        <c:axId val="50228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84318"/>
        <c:crosses val="autoZero"/>
        <c:auto val="1"/>
        <c:lblAlgn val="ctr"/>
        <c:lblOffset val="100"/>
        <c:noMultiLvlLbl val="0"/>
      </c:catAx>
      <c:valAx>
        <c:axId val="60384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28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0CA-4739-4243-B79B-88732BE4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7E8-F6E8-4996-8027-7F92062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FC3-C928-4D1B-8BE9-BAE3CD13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722-B061-49FA-B226-9F15290C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C3F-5178-4292-8EBD-DFCA3992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E8F-0682-4DBF-A7A1-061AE298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930-239E-4CA1-A956-90AD68CA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49B-8636-4D04-8E67-9BFC3279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E4A-7783-4514-8085-9986B33B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E2E-A81E-4B2D-8C74-421C408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1B7-618C-4839-9659-FBE3913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60D-7A54-47BC-8E8E-42E09F3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B8E2D-2B70-4AB9-B9B0-764141AFD4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