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90011"/>
        <c:axId val="24149529"/>
      </c:barChart>
      <c:catAx>
        <c:axId val="64890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49529"/>
        <c:crosses val="autoZero"/>
        <c:auto val="1"/>
        <c:lblAlgn val="ctr"/>
        <c:lblOffset val="100"/>
        <c:noMultiLvlLbl val="0"/>
      </c:catAx>
      <c:valAx>
        <c:axId val="241495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90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E156-67AB-4192-AB64-22AFB67B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36D-4891-4C9D-A091-5E2F2652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19C5-D893-42CE-8537-A7389396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7F6C-DEA3-4518-9621-5DC1C280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0B88-F0E3-4B4D-965F-1CD76EBF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541F-8CDD-412B-B3A4-244F0FAC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F6C1-1D4F-42B2-8168-8F107749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4EBD-BB3D-4EB2-A4B3-8370E6C4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BDD-4E24-46F5-BCDF-6168FE0E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A724-B195-4E23-AC0E-499928D9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132-79A5-4F43-A552-180AA4A9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C09-473D-4626-AFAA-BD538500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7A8B0-ABDD-47FA-9298-1E4178B501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