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3500"/>
        <c:axId val="4623246"/>
      </c:barChart>
      <c:catAx>
        <c:axId val="10443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246"/>
        <c:crosses val="autoZero"/>
        <c:auto val="1"/>
        <c:lblAlgn val="ctr"/>
        <c:lblOffset val="100"/>
        <c:noMultiLvlLbl val="0"/>
      </c:catAx>
      <c:valAx>
        <c:axId val="4623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3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90A-287C-4A0E-A431-2B2E4974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89B-D5D4-4693-B46E-E0C7A288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954-3E8F-4E23-8218-6D914DD9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4C3-B228-4675-A851-6D37835D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03F-EB76-4963-B363-63CD8401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33C-2A93-48F9-8810-4DDD3339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8AF-B026-40D4-89B8-7156B4D1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59D-1983-4B13-9F59-D8F6C42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59E-7CA7-401B-8F0E-EFDF3B43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32E-A98F-4E56-8A47-6A53306B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A9F-C400-4FE0-87F7-7357863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A97-F8EB-475F-A3B9-35F39EB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4B9C2-31EF-44A7-864F-F13C63820F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