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404"/>
        <c:axId val="23015250"/>
      </c:barChart>
      <c:catAx>
        <c:axId val="631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15250"/>
        <c:crosses val="autoZero"/>
        <c:auto val="1"/>
        <c:lblAlgn val="ctr"/>
        <c:lblOffset val="100"/>
        <c:noMultiLvlLbl val="0"/>
      </c:catAx>
      <c:valAx>
        <c:axId val="23015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25B-A94A-4CB8-8C43-779E5E79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F4C-BDAF-4B8D-A818-C14E4F11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EE4-702A-42CB-8A91-6A6CDC03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EBB-1D90-4917-92AD-2BBB7CB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760-9DE0-4B1C-BF3C-F333BDB7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A8D-382B-49F5-8F73-09CB0950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F52-EC4A-4E54-8FA7-43E40B55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441-C333-4DDE-9063-E0F9393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11C-1C44-4597-BDDF-0EBDB665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E68-7853-4D00-839D-3770F69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1FE-FFA6-4BE7-847C-B36A2422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18A-29D6-4AE4-91E1-A2DF717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22461-AECF-4060-BF25-093A0821E1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