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5302"/>
        <c:axId val="29147467"/>
      </c:barChart>
      <c:catAx>
        <c:axId val="80905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7467"/>
        <c:crosses val="autoZero"/>
        <c:auto val="1"/>
        <c:lblAlgn val="ctr"/>
        <c:lblOffset val="100"/>
        <c:noMultiLvlLbl val="0"/>
      </c:catAx>
      <c:valAx>
        <c:axId val="29147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5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CD3-6EE8-410C-A708-0A63101C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6F2-F89D-4DB3-ADDD-0B7D1F1B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537-161F-43AD-AC7C-46F96D5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75A-4571-431C-8B3B-2735F29F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9D9-2483-4D8C-9F1E-0DAB5AA6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F68-E6F1-4CD6-8B8D-0831210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15A-1C10-4599-A3A9-13E0125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1FD-0033-44F1-BE1B-21E02462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C0C-D544-4C2A-9CAF-A16182C5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0A3-85CB-42CD-A81A-F762888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E81-1123-4A11-B53B-9B5C0EE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C87-1D48-49FC-B105-43055BD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5A63D-D436-4600-A847-08BF68EA1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