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456722"/>
        <c:axId val="54429881"/>
      </c:barChart>
      <c:catAx>
        <c:axId val="944567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429881"/>
        <c:crosses val="autoZero"/>
        <c:auto val="1"/>
        <c:lblAlgn val="ctr"/>
        <c:lblOffset val="100"/>
        <c:noMultiLvlLbl val="0"/>
      </c:catAx>
      <c:valAx>
        <c:axId val="544298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4567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A6E7-FFDF-44BF-8F05-9A2833684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B1C7-321A-41B3-B08D-DB344FB7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D23C-9BE0-419D-B196-436C1DA7F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93D5-9C65-4724-A628-E4EE0B93D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6CA3-A247-440D-8CBE-443DB991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70B9-85CB-48F5-A274-941E82F1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4387-CC4C-4165-8340-619C2378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71C3-FD1C-47F4-9C2F-44A19297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FD0D-75ED-4347-9575-77126497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8543-F73E-4C7B-99CE-146A80E6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9A60-99A5-4908-80C9-AB5B0C24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D687-6D9D-4FAB-94A4-967C40DE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5535E-EA30-4F29-88DF-3E622AC802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