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67590"/>
        <c:axId val="89698911"/>
      </c:barChart>
      <c:catAx>
        <c:axId val="39067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98911"/>
        <c:crosses val="autoZero"/>
        <c:auto val="1"/>
        <c:lblAlgn val="ctr"/>
        <c:lblOffset val="100"/>
        <c:noMultiLvlLbl val="0"/>
      </c:catAx>
      <c:valAx>
        <c:axId val="89698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67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79E-308F-4B62-8993-5E97FBAF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069-F294-43B4-B75A-2ACBE43B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1FE-B1EB-4657-8CD3-E5E3D900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BCE-1413-40BF-B6FE-FF10EC4E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CA9-890E-4EE2-924B-0CA585E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38D-87C7-423F-A19E-758CF64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2E6-10D8-48F9-9BE3-CEDD1643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7C0-3CF2-4F16-BC7B-E463DB15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A9A-E38E-46EF-B88D-956DFE66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B36-F09F-40CF-A335-B392A5A9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BF5-F5C7-49EF-A2AF-FB59BDA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D09-11AA-43B3-90D7-B0AFCD5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04F37-9223-414A-9DB9-5AFC16C0D6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