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85163"/>
        <c:axId val="31651570"/>
      </c:barChart>
      <c:catAx>
        <c:axId val="390851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51570"/>
        <c:crosses val="autoZero"/>
        <c:auto val="1"/>
        <c:lblAlgn val="ctr"/>
        <c:lblOffset val="100"/>
        <c:noMultiLvlLbl val="0"/>
      </c:catAx>
      <c:valAx>
        <c:axId val="31651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851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46B2-19D4-4E87-9786-39D490A7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839-7C24-4C1E-A553-7237FF7A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731B-425C-48B9-8576-EDC615B7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3479-C576-4208-960A-4BD569C0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9C4-6C18-4064-9A73-FD8E62D4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65C-813D-4BDB-A2B3-98826CFD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367-248D-4313-9131-6B6E82FA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58C0-4F06-4969-845E-D287CCD6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D7FF-91C7-4B31-AFEA-9BB68BFA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DE6C-CD68-4092-AF9A-BB80C287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194-FE3D-4BF6-8143-866E76C1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7829-6B8C-4B12-A55C-86510B70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D0189-0613-4E3B-BBF2-FFBF8DBE78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