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48909"/>
        <c:axId val="19232245"/>
      </c:barChart>
      <c:catAx>
        <c:axId val="76548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2245"/>
        <c:crosses val="autoZero"/>
        <c:auto val="1"/>
        <c:lblAlgn val="ctr"/>
        <c:lblOffset val="100"/>
        <c:noMultiLvlLbl val="0"/>
      </c:catAx>
      <c:valAx>
        <c:axId val="19232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48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6C1-FD8C-4C87-9E4E-1F68336B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CAA-113E-4D7B-AB28-B83EA681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DD9-EBD6-460F-94C4-6A00377C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15F-D201-4373-9204-93C4AABA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C78-EB1A-4EC1-8299-AA87C9EF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CB1-0525-406B-A4D6-589F9CB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378-FDC9-4905-B945-47ADD45E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EF0-4B11-449B-B852-B2265B33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A60-D2CB-4623-9DB2-DC93F18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492-5C77-4F48-B83E-47052BB2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004-0C10-41FB-BEB4-F5B8DFF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9E0-A41A-46A9-A7BC-BC3ADD70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764C-14CF-485E-9D81-A72CF9DB66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