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948224"/>
        <c:axId val="82664420"/>
      </c:barChart>
      <c:catAx>
        <c:axId val="399482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64420"/>
        <c:crosses val="autoZero"/>
        <c:auto val="1"/>
        <c:lblAlgn val="ctr"/>
        <c:lblOffset val="100"/>
        <c:noMultiLvlLbl val="0"/>
      </c:catAx>
      <c:valAx>
        <c:axId val="826644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482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EABA-9297-47B7-BA3B-939FAC44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20DA-5C30-49BE-B195-129365A6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0260-B40A-4EF1-8E2A-B8723B07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D1E1-F1DF-41E7-86B8-20E8082E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D46F-B9F5-4BFB-9437-4486B83F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7200-97D7-441E-8ECB-8670AEA5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9E22-EB46-4B61-AD59-7610A407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4EEA-00BC-4B96-84F0-ABAF2786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A86D-C5AF-46E5-9555-C9A494E2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F505-E6F4-42EF-961A-1281B155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F93-30C1-4BAC-B258-3214D502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BB20-99D8-44DE-8381-078DE8EE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2E2B7-E756-4DB2-B2E9-85E37DD6F8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