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99994"/>
        <c:axId val="64592781"/>
      </c:barChart>
      <c:catAx>
        <c:axId val="55899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92781"/>
        <c:crosses val="autoZero"/>
        <c:auto val="1"/>
        <c:lblAlgn val="ctr"/>
        <c:lblOffset val="100"/>
        <c:noMultiLvlLbl val="0"/>
      </c:catAx>
      <c:valAx>
        <c:axId val="64592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9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132-251C-4512-B478-BFC09CCC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912-A8E3-4983-B9FC-279E74DD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85E-770E-4572-844C-02E89A54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1A5-D87F-4050-B8A5-0A7C30A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1CD-090D-475C-A003-F06A0F4B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154-3E5F-4868-9517-1066D6D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112-C927-4AE6-A03B-C194291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CC0-AA04-4D54-A48A-0841F45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B3D-4653-4AFE-BC53-9733F86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CB4-8ACC-46B9-AE76-6ED561A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45A-FB45-40C1-BBB4-DED48653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535-C484-4C5F-ACBD-DDE5B99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11D3-7FA2-45D5-9D83-A623EF2BA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